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3831-0660-45EC-B237-4CA0979CA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977B-028E-420E-99F3-CDDE92DC5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EBD-BBE5-44BC-B56F-6010B9FF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AFD-1B73-4503-AB5B-18DCBACF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253-D175-498C-B70F-3997FBA2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849-71B7-4280-81AA-E639261A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1B3-3ABC-429A-A131-6B8AE21C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438-87C8-4360-80E4-2DD3849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1D6-378C-4C44-AE02-48BD52B7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0F4-4D33-41DD-B304-AD11CC49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E27-1738-4193-99AA-540F68B5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447-83F6-492C-A4E1-2E7B665A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C06-72D5-4B9C-AB50-438FC99D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B12-C3B6-40D7-8378-8620E342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3027-F6BE-4CCD-AB0C-1694DB54A0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3D40-974F-4517-8EAD-5D1D1E3DE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июл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7B74-23E7-4C64-86E8-FB55655AB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июл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6-28T10:44:45Z</dcterms:modified>
  <cp:revision>170</cp:revision>
  <dc:subject/>
  <dc:title>Презентация PowerPoint</dc:title>
</cp:coreProperties>
</file>